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07D-8FE6-44C1-A47F-1F09244C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B5B-9FA4-47A2-A155-D1F46370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249-BFA3-4F7F-BF02-B5343002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094-EC41-4798-899B-3815F903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A76B1-BD8C-4ACE-BF36-F82B8EBD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E4ED0-34CE-4231-A510-D477596C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73EAF-BC6E-4A1B-B9D4-BEF045DE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2D4B-2D62-4ADB-B7FE-F89DE78E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FE333-BF76-43E4-9D80-DC6EA46F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7D2FD-6CA1-4EA0-ABF6-059A4D0A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67D7D-A4DE-4104-9F7B-976C5C1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533-C544-4332-BA00-175FCA7E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1BC79-9CB7-47C3-AFD8-37760B4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A446B-7F50-46D5-B0F0-4257C815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D005F-C393-43C4-B14C-29BE51B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4004D-D127-4656-9809-286610BF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F0042-DEA4-4DAB-8AA6-5D397AF2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3DA3-1FB6-40B4-B671-4DCE5C7B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C89A-48A3-455C-991B-66D5037E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59AC-A476-44CC-A248-60CA926D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35F4-3492-4AC9-9C94-C8D53422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7658-A21A-4C81-8CB2-3C83A659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234-CAEC-4748-96C7-F2DCBCD8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FABD-7AD7-48FB-A4D2-FBE54388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F252-D202-49CF-A31B-5BC03CE5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108F-31DA-469B-9944-9F6D11FD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0388-16E2-4A4E-B7E5-0F1E5E2A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09E3-763D-415F-B165-EE21D43F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77CE-BAC9-46EC-B670-5AAAD7B8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0934-BBFD-457C-AF3F-A8A38D73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8DA-7ABF-49B1-A41F-38D81899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5B8-5AE2-4D45-8B85-7FD30091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F1D-4431-4913-8536-1E155430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150-19CA-499D-9861-B2EA69B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FDA-B57B-4E64-A15C-7C59695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0B6-AC40-42DE-80D2-D3D160F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0799-9B15-4429-96DE-4F15403E8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343320" y="-639720"/>
            <a:ext cx="7588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343320" y="-639720"/>
            <a:ext cx="758880" cy="757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4"/>
          <p:cNvSpPr/>
          <p:nvPr/>
        </p:nvSpPr>
        <p:spPr>
          <a:xfrm>
            <a:off x="903240" y="-247680"/>
            <a:ext cx="5751720" cy="2019240"/>
          </a:xfrm>
          <a:prstGeom prst="rect">
            <a:avLst/>
          </a:prstGeom>
          <a:solidFill>
            <a:srgbClr val="dac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1"/>
          <p:cNvSpPr/>
          <p:nvPr/>
        </p:nvSpPr>
        <p:spPr>
          <a:xfrm>
            <a:off x="4861080" y="63468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eade"/>
                </a:solidFill>
                <a:latin typeface="Calibri"/>
              </a:rPr>
              <a:t>presentation-creatio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 rot="5400000">
            <a:off x="11142360" y="8902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Calibri"/>
              </a:rPr>
              <a:t>presentation-creatio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9"/>
          <p:cNvSpPr/>
          <p:nvPr/>
        </p:nvSpPr>
        <p:spPr>
          <a:xfrm>
            <a:off x="504720" y="231840"/>
            <a:ext cx="0" cy="2836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>
            <a:off x="325440" y="484200"/>
            <a:ext cx="3090960" cy="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7"/>
          <p:cNvSpPr/>
          <p:nvPr/>
        </p:nvSpPr>
        <p:spPr>
          <a:xfrm>
            <a:off x="11661840" y="231840"/>
            <a:ext cx="0" cy="2836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8834400" y="484200"/>
            <a:ext cx="3089160" cy="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795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795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795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4AAF-67DD-417F-B00E-4AF79825FEC6}" type="slidenum">
              <a:rPr b="0" lang="ru-RU" sz="1200" spc="-1" strike="noStrike">
                <a:solidFill>
                  <a:srgbClr val="88795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ade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ade"/>
                </a:solidFill>
                <a:latin typeface="Calibri"/>
              </a:rPr>
              <a:t>presentation-creatio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343320" y="-639720"/>
            <a:ext cx="758880" cy="757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10"/>
          <p:cNvSpPr/>
          <p:nvPr/>
        </p:nvSpPr>
        <p:spPr>
          <a:xfrm>
            <a:off x="504720" y="360360"/>
            <a:ext cx="0" cy="1123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325440" y="468360"/>
            <a:ext cx="116676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2"/>
          <p:cNvSpPr/>
          <p:nvPr/>
        </p:nvSpPr>
        <p:spPr>
          <a:xfrm>
            <a:off x="11769840" y="5219640"/>
            <a:ext cx="0" cy="1125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3"/>
          <p:cNvSpPr/>
          <p:nvPr/>
        </p:nvSpPr>
        <p:spPr>
          <a:xfrm>
            <a:off x="10771200" y="6257880"/>
            <a:ext cx="11653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4"/>
          <p:cNvSpPr/>
          <p:nvPr/>
        </p:nvSpPr>
        <p:spPr>
          <a:xfrm>
            <a:off x="11769840" y="360360"/>
            <a:ext cx="0" cy="1123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5"/>
          <p:cNvSpPr/>
          <p:nvPr/>
        </p:nvSpPr>
        <p:spPr>
          <a:xfrm>
            <a:off x="10771200" y="466560"/>
            <a:ext cx="11653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6"/>
          <p:cNvSpPr/>
          <p:nvPr/>
        </p:nvSpPr>
        <p:spPr>
          <a:xfrm>
            <a:off x="325440" y="6257880"/>
            <a:ext cx="116676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7"/>
          <p:cNvSpPr/>
          <p:nvPr/>
        </p:nvSpPr>
        <p:spPr>
          <a:xfrm>
            <a:off x="503280" y="5219640"/>
            <a:ext cx="0" cy="1125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C3CE-D94B-40C6-ACFF-3D27D6B4D9E1}" type="slidenum">
              <a:rPr b="0" lang="ru-RU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7120" y="316080"/>
            <a:ext cx="10936440" cy="26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Arial"/>
                <a:ea typeface="Arial"/>
              </a:rPr>
              <a:t>Формулы площади и периметра фигу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2" name="Picture 5" descr="Picture background"/>
          <p:cNvPicPr/>
          <p:nvPr/>
        </p:nvPicPr>
        <p:blipFill>
          <a:blip r:embed="rId1"/>
          <a:stretch/>
        </p:blipFill>
        <p:spPr>
          <a:xfrm>
            <a:off x="1081080" y="2744640"/>
            <a:ext cx="5037120" cy="37227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7331040" y="2644920"/>
            <a:ext cx="3973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Ученица 5А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бузина Светл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шукова Татьян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ПЯТ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Подготовить выводы о значении изучения формул площади и периметра в повседневной жизни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Применение в дизайне интерь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планировка простран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определение функциональных 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выбор мебели и дек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оптимизация осве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расчёт отделочных матери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создание визуального бал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учёт строительных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7680240" y="2959200"/>
            <a:ext cx="3708360" cy="270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, можно сказать, что изучение формул площади и периметра различных фигур имеет не только теоретическое, но и практическое значение. Эти знания формируют основу для дальнейшего изучения геометрии и математики в целом, а также развивают критическое мышление и практические навыки уча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данное исследование подчеркивает значимость математического образования и его влияние на развитие практических навыков, что является необходимым для успешного обучения и подготовки к будущей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9"/>
          <p:cNvSpPr/>
          <p:nvPr/>
        </p:nvSpPr>
        <p:spPr>
          <a:xfrm>
            <a:off x="2401920" y="2157480"/>
            <a:ext cx="7226280" cy="11509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27422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7120" y="316080"/>
            <a:ext cx="10936440" cy="26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Arial"/>
                <a:ea typeface="Arial"/>
              </a:rPr>
              <a:t>Формулы площади и периметра фигу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5" name="Picture 5" descr="Picture background"/>
          <p:cNvPicPr/>
          <p:nvPr/>
        </p:nvPicPr>
        <p:blipFill>
          <a:blip r:embed="rId1"/>
          <a:stretch/>
        </p:blipFill>
        <p:spPr>
          <a:xfrm>
            <a:off x="1081080" y="2744640"/>
            <a:ext cx="5037120" cy="37227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331040" y="2644920"/>
            <a:ext cx="3973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Ученица 5А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бузина Светл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шукова Татьян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АКТУАЛЬНОСТЬ ТЕМЫ ИССЛЕДОВАНИЯ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овременном мире математика играет ключевую роль в различных областях человеческой деятельности, включая архитектуру, дизайн, инженерное дело и повседневную жизнь. Умение правильно рассчитывать площадь и периметр позволяет оптимизировать использование материалов и пространства, что особенно актуально в условиях ограниченных ресурс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Picture background"/>
          <p:cNvPicPr/>
          <p:nvPr/>
        </p:nvPicPr>
        <p:blipFill>
          <a:blip r:embed="rId1"/>
          <a:stretch/>
        </p:blipFill>
        <p:spPr>
          <a:xfrm>
            <a:off x="7746840" y="4356000"/>
            <a:ext cx="3864240" cy="22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864720"/>
            <a:ext cx="10515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Объект исследования </a:t>
            </a:r>
            <a:r>
              <a:rPr b="1" lang="ru-RU" sz="2800" spc="-1" strike="noStrike">
                <a:solidFill>
                  <a:srgbClr val="2f5597"/>
                </a:solidFill>
                <a:latin typeface="Arial"/>
                <a:ea typeface="DejaVu Sans"/>
              </a:rPr>
              <a:t>-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MS Mincho"/>
              </a:rPr>
              <a:t> геометрические фигуры, такие как квадрат, прямоугольник, треугольник, параллелограмм, трапеция, ромб, окружность и круг, а также формулы, используемые для расчета их площади и перимет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Предмет</a:t>
            </a:r>
            <a:r>
              <a:rPr b="1" lang="ru-RU" sz="2800" spc="-1" strike="noStrike">
                <a:solidFill>
                  <a:srgbClr val="2f5597"/>
                </a:solidFill>
                <a:latin typeface="Arial"/>
                <a:ea typeface="DejaVu Sans"/>
              </a:rPr>
              <a:t> - 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MS Mincho"/>
              </a:rPr>
              <a:t>формулы площади и периметра различных фигур, их вывод, применение и значение в практической деятельности, а также влияние на архитектурные и дизайнерские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   </a:t>
            </a: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Цель </a:t>
            </a:r>
            <a:r>
              <a:rPr b="1" lang="ru-RU" sz="2800" spc="-1" strike="noStrike">
                <a:solidFill>
                  <a:srgbClr val="2f5597"/>
                </a:solidFill>
                <a:latin typeface="Arial"/>
                <a:ea typeface="DejaVu Sans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знаний о формулах площади и периметра различных геометрических фигур, а также исследование их применения в архитектуре и диза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466040" y="4967280"/>
            <a:ext cx="3490920" cy="170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ЗАДАЧИ ИССЛЕД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ть и описать основные понятия, связанные с площадью и перимет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иск формул для расчета площади и периметра квадрата, прямоугольника, треугольника, параллелограмма, ромба, трапеции, окружности  и к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сравнительный анализ формул площади и периметра различных фигу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ссмотреть примеры применения этих формул в архитектурных и дизайнерских проек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дготовить выводы о значении изучения формул площади и периметра в повседнев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9677520" y="5353200"/>
            <a:ext cx="2176200" cy="150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ПЕРВ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ь и описать основные понятия, связанные с площадью и периметром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расчета площади и периметра геометрических фигур играют ключевую роль в математике и повседневной жизни. Они необходимы для решения множества практических задач, связанных с измерением и оценкой пространства, а также для более глубокого понимания геометрических концепц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имание основных геометрических пон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ктическое приме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кономия ресур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тие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дготовка к более сложным математическим концепц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Picture background"/>
          <p:cNvPicPr/>
          <p:nvPr/>
        </p:nvPicPr>
        <p:blipFill>
          <a:blip r:embed="rId1"/>
          <a:stretch/>
        </p:blipFill>
        <p:spPr>
          <a:xfrm>
            <a:off x="8935920" y="3846600"/>
            <a:ext cx="2651400" cy="167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335304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</a:t>
            </a: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ПОЛУЧЕННЫЕ ПРИ РЕШЕНИИ ВТОР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иск формул для расчета площади и периметра квадрата, прямоугольника, треугольника, параллелограмма, ромба, трапеции, окружности и круга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7" name="Picture 5" descr="Picture background"/>
          <p:cNvPicPr/>
          <p:nvPr/>
        </p:nvPicPr>
        <p:blipFill>
          <a:blip r:embed="rId1"/>
          <a:stretch/>
        </p:blipFill>
        <p:spPr>
          <a:xfrm>
            <a:off x="4603680" y="0"/>
            <a:ext cx="7588440" cy="682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ТРЕТЬЕ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сравнительный анализ формул площади и периметра различных фигур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сновополагающая роль в матема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Широкое практическое приме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Экономия ресурсов и вр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Развитие аналитических навы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Подготовка к более сложным концепц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Универсальность приме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148520" y="2712960"/>
            <a:ext cx="4073400" cy="295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ЧЕТВЕРТОЙ ЗАДАЧИ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Рассмотреть примеры применения этих формул в архитектурных и дизайнерских проектах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2" name="Picture 5" descr="Picture background"/>
          <p:cNvPicPr/>
          <p:nvPr/>
        </p:nvPicPr>
        <p:blipFill>
          <a:blip r:embed="rId1"/>
          <a:stretch/>
        </p:blipFill>
        <p:spPr>
          <a:xfrm>
            <a:off x="4791240" y="1496880"/>
            <a:ext cx="6819840" cy="51372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Picture background"/>
          <p:cNvPicPr/>
          <p:nvPr/>
        </p:nvPicPr>
        <p:blipFill>
          <a:blip r:embed="rId2"/>
          <a:stretch/>
        </p:blipFill>
        <p:spPr>
          <a:xfrm>
            <a:off x="698400" y="2066760"/>
            <a:ext cx="4456080" cy="479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ПЯТ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ь выводы о значении изучения формул площади и периметра в повседневной жизни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Применение формул в архитектуре и диза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проектирование зд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оптимизация простран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расчёт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энергоэффе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ландшафтный дизай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строительные нормы и стандар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8029440" y="2876400"/>
            <a:ext cx="3608640" cy="292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04T08:17:15Z</dcterms:created>
  <dc:creator>User Obstinate</dc:creator>
  <dc:description/>
  <dc:language>en-US</dc:language>
  <cp:lastModifiedBy>User</cp:lastModifiedBy>
  <dcterms:modified xsi:type="dcterms:W3CDTF">2025-02-06T07:36:32Z</dcterms:modified>
  <cp:revision>54</cp:revision>
  <dc:subject/>
  <dc:title>Минимализм деловой, шаблон презентации с сайта presentation-creation.ru</dc:title>
</cp:coreProperties>
</file>